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CE120E-039E-4AA6-BA0F-701201D19AC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Law of Cosines (Cosine Rule) wikipedi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F6EBBA-B7DE-4763-8F9A-48362BC9246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6C6EE9-A127-4B95-A3AA-B2058AD9B61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61EEBD-CF77-481C-9B9F-AB3064A3AA0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0F6CAD-D522-41C2-9403-BB1FDCB415B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3D6F5F-3044-486C-ADD7-161FB5BEC27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BBEF4F-84C5-409B-983B-9964BE83D95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C94B02-502E-4F50-840F-2C2A0B69B10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E2552B-5853-426B-9541-3EB1478E531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A527DC-D771-4701-BD98-D1029375BEF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E3DB9B-3CB0-4201-8A44-DD3FA61A5AF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FAD671-055F-4E7F-BBA0-651713CEE18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311256-E4A3-44F7-8687-EF559E910C2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325279-FB74-41E4-86B3-7E7ACBCC207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5BAF15-06C2-404E-AD95-8B1947F6EF9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A0D005-1513-49C0-AEB8-39B90712075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D30FAD-D899-4846-9598-F03B466EC49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525E03-7E39-478D-B98E-915E313BB07D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2DBB1C-3393-4590-A03D-C63944E944AB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: Cornell (Salton) IR system of 1970s to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126EEB-6246-4BE6-9790-84A06A76A806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ng vector space query is like a disjunction: you have to consider documents with any of the words, and sum partial cosine similarities over the various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299BEB-E04D-4CCB-B274-5050550EBB2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86FE38-DB66-420B-8C6D-EB3BBEB1E381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FF1DE0-2E75-4FB1-A179-AF69B93B6AD0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E7B956-8B41-467B-B2EA-E2BA1FFE641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ACAC93-989A-4E01-8431-C7B5C119699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66E-ABB2-4BA7-87CC-724B586A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C38-15A8-47EA-A82E-3043485D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4FB-7314-4716-AEF3-B17D0E6D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1342-DB98-41F7-B343-3FC4356D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3EEB-91E0-4C50-B4BB-C026878D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AE7A-C9E3-4ED5-9CE5-D97A7DA5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0A27-1E25-43C2-BFF4-010FC695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C321-279D-40CB-A459-24589FA2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DDA8-2A62-4C3C-8875-C9D9513C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FEB3-62C6-495F-8FA5-BEC32EF0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6ADA-EBD1-4DB8-923E-37A9A4EF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0A0-74B1-4ACE-A5CA-A4F08E38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83DA-6EDD-40A1-8EF6-445D5257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98FD-03F1-4566-8B70-56E853B9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AB70-2E5D-482A-9A36-FB0750E3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1E95-6BED-44DD-9FB9-2905644A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772D-8DF9-473B-8F67-6E794D0B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34F-A5DA-4B0C-9481-75CCDF75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069-9347-4E53-852F-78548C04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B14-C365-4042-BF0C-87ABD91F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944-96CB-4E45-8120-65341121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582-1B8A-4DE4-A354-60D0F7D8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6BC-AE46-426E-95C1-8B7443E5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343-AD07-45D9-BAF0-2A2C2C62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1FF9-F132-4707-8BF3-DA7231E50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AFB1-64EB-40F4-A5D0-BD7CF3B48977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graphical 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463680" y="5805360"/>
            <a:ext cx="5769360" cy="1079280"/>
            <a:chOff x="463680" y="5805360"/>
            <a:chExt cx="5769360" cy="1079280"/>
          </a:xfrm>
        </p:grpSpPr>
        <p:sp>
          <p:nvSpPr>
            <p:cNvPr id="152" name="AutoShape 4"/>
            <p:cNvSpPr/>
            <p:nvPr/>
          </p:nvSpPr>
          <p:spPr>
            <a:xfrm>
              <a:off x="468360" y="5805360"/>
              <a:ext cx="5761080" cy="1079280"/>
            </a:xfrm>
            <a:prstGeom prst="roundRect">
              <a:avLst>
                <a:gd name="adj" fmla="val 16667"/>
              </a:avLst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Text Box 5"/>
            <p:cNvSpPr/>
            <p:nvPr/>
          </p:nvSpPr>
          <p:spPr>
            <a:xfrm>
              <a:off x="463680" y="5873400"/>
              <a:ext cx="5769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ostulate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: Documents that are </a:t>
              </a: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ose together</a:t>
              </a: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”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 the vector space talk about the same thing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uclidean distance sensible to vector length !!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54" name="AutoShape 6"/>
          <p:cNvCxnSpPr/>
          <p:nvPr/>
        </p:nvCxnSpPr>
        <p:spPr>
          <a:xfrm>
            <a:off x="2602080" y="380952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7"/>
          <p:cNvCxnSpPr/>
          <p:nvPr/>
        </p:nvCxnSpPr>
        <p:spPr>
          <a:xfrm flipV="1">
            <a:off x="2601720" y="1904400"/>
            <a:ext cx="108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8"/>
          <p:cNvCxnSpPr/>
          <p:nvPr/>
        </p:nvCxnSpPr>
        <p:spPr>
          <a:xfrm flipH="1">
            <a:off x="848520" y="3809880"/>
            <a:ext cx="175356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9"/>
          <p:cNvCxnSpPr/>
          <p:nvPr/>
        </p:nvCxnSpPr>
        <p:spPr>
          <a:xfrm flipV="1">
            <a:off x="2601720" y="3123360"/>
            <a:ext cx="190548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8" name="AutoShape 10"/>
          <p:cNvCxnSpPr/>
          <p:nvPr/>
        </p:nvCxnSpPr>
        <p:spPr>
          <a:xfrm>
            <a:off x="2601720" y="3809520"/>
            <a:ext cx="160092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9" name="AutoShape 11"/>
          <p:cNvCxnSpPr/>
          <p:nvPr/>
        </p:nvCxnSpPr>
        <p:spPr>
          <a:xfrm flipV="1">
            <a:off x="2602080" y="2285280"/>
            <a:ext cx="915120" cy="15246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0" name="AutoShape 12"/>
          <p:cNvCxnSpPr/>
          <p:nvPr/>
        </p:nvCxnSpPr>
        <p:spPr>
          <a:xfrm flipH="1">
            <a:off x="2068200" y="3809880"/>
            <a:ext cx="534240" cy="1067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1" name="AutoShape 13"/>
          <p:cNvCxnSpPr/>
          <p:nvPr/>
        </p:nvCxnSpPr>
        <p:spPr>
          <a:xfrm flipH="1" flipV="1">
            <a:off x="924840" y="2666160"/>
            <a:ext cx="1677240" cy="1143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2" name="Text Box 14"/>
          <p:cNvSpPr/>
          <p:nvPr/>
        </p:nvSpPr>
        <p:spPr>
          <a:xfrm>
            <a:off x="4725720" y="37720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3516480" y="1981080"/>
            <a:ext cx="4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4437000" y="28954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474480" y="251460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1998360" y="48769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4055760" y="44197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2150640" y="18288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474120" y="45720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Freeform 22"/>
          <p:cNvSpPr/>
          <p:nvPr/>
        </p:nvSpPr>
        <p:spPr>
          <a:xfrm>
            <a:off x="2144880" y="3657600"/>
            <a:ext cx="304560" cy="546120"/>
          </a:xfrm>
          <a:custGeom>
            <a:avLst/>
            <a:gdLst>
              <a:gd name="textAreaLeft" fmla="*/ 0 w 304560"/>
              <a:gd name="textAreaRight" fmla="*/ 304920 w 30456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192" h="344">
                <a:moveTo>
                  <a:pt x="144" y="0"/>
                </a:moveTo>
                <a:cubicBezTo>
                  <a:pt x="108" y="12"/>
                  <a:pt x="72" y="24"/>
                  <a:pt x="48" y="48"/>
                </a:cubicBezTo>
                <a:cubicBezTo>
                  <a:pt x="24" y="72"/>
                  <a:pt x="0" y="104"/>
                  <a:pt x="0" y="144"/>
                </a:cubicBezTo>
                <a:cubicBezTo>
                  <a:pt x="0" y="184"/>
                  <a:pt x="16" y="256"/>
                  <a:pt x="48" y="288"/>
                </a:cubicBezTo>
                <a:cubicBezTo>
                  <a:pt x="80" y="320"/>
                  <a:pt x="176" y="344"/>
                  <a:pt x="192" y="336"/>
                </a:cubicBezTo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1778040" y="357336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4300560" y="1844280"/>
            <a:ext cx="470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v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 / ||v|| * ||w||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AutoShape 25"/>
          <p:cNvSpPr/>
          <p:nvPr/>
        </p:nvSpPr>
        <p:spPr>
          <a:xfrm>
            <a:off x="3321000" y="5231160"/>
            <a:ext cx="5715000" cy="509400"/>
          </a:xfrm>
          <a:prstGeom prst="roundRect">
            <a:avLst>
              <a:gd name="adj" fmla="val 16667"/>
            </a:avLst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e user query is a very short do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AutoShape 26"/>
          <p:cNvSpPr/>
          <p:nvPr/>
        </p:nvSpPr>
        <p:spPr>
          <a:xfrm>
            <a:off x="5235480" y="316440"/>
            <a:ext cx="3498840" cy="775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Easy to Spa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796000" y="2565360"/>
            <a:ext cx="3024000" cy="2087640"/>
          </a:xfrm>
          <a:prstGeom prst="horizontalScroll">
            <a:avLst>
              <a:gd name="adj" fmla="val 125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ophisticated alg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to find top-k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for a query 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ine(query,documen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Content Placeholder 3"/>
              <p:cNvSpPr txBox="1"/>
              <p:nvPr/>
            </p:nvSpPr>
            <p:spPr>
              <a:xfrm>
                <a:off x="1073160" y="2317680"/>
                <a:ext cx="7095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Line Callout 1 4"/>
          <p:cNvSpPr/>
          <p:nvPr/>
        </p:nvSpPr>
        <p:spPr>
          <a:xfrm>
            <a:off x="1781640" y="1707840"/>
            <a:ext cx="1621080" cy="398880"/>
          </a:xfrm>
          <a:prstGeom prst="borderCallout1">
            <a:avLst>
              <a:gd name="adj1" fmla="val 18750"/>
              <a:gd name="adj2" fmla="val -8333"/>
              <a:gd name="adj3" fmla="val 228402"/>
              <a:gd name="adj4" fmla="val 80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Dot produ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304920" y="4343400"/>
            <a:ext cx="8610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q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d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docu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,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is the cosine similarity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… or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quivalently, the cosine of the angle between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s for length-normalized vec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length-normalized vectors, cosine similarity is simply the dot product (or scalar product)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q, d length-normalized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Content Placeholder 3"/>
              <p:cNvSpPr txBox="1"/>
              <p:nvPr/>
            </p:nvSpPr>
            <p:spPr>
              <a:xfrm>
                <a:off x="1363680" y="3124080"/>
                <a:ext cx="54831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72880"/>
            <a:ext cx="86104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sine similarity among 3 do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505320" y="1700280"/>
          <a:ext cx="5410080" cy="243684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l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ss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th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3368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ow similar a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novel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"/>
              </a:rPr>
              <a:t>Sa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Sense an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Sensibilit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"/>
              </a:rPr>
              <a:t>PaP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Pride an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Prejudic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, an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"/>
              </a:rPr>
              <a:t>WH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Wuther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Heigh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3992040" y="4076640"/>
            <a:ext cx="45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Term frequencies (counts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447120" y="6172200"/>
            <a:ext cx="66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7e69"/>
                </a:solidFill>
                <a:latin typeface="Lucida Sans"/>
              </a:rPr>
              <a:t>Note: To simplify this example, we </a:t>
            </a:r>
            <a:r>
              <a:rPr b="0" lang="it-IT" sz="2000" spc="-1" strike="noStrike">
                <a:solidFill>
                  <a:srgbClr val="357e69"/>
                </a:solidFill>
                <a:latin typeface="Lucida Sans"/>
              </a:rPr>
              <a:t>avoid </a:t>
            </a:r>
            <a:r>
              <a:rPr b="0" lang="en-US" sz="2000" spc="-1" strike="noStrike">
                <a:solidFill>
                  <a:srgbClr val="357e69"/>
                </a:solidFill>
                <a:latin typeface="Lucida Sans"/>
              </a:rPr>
              <a:t>idf weighting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3094200" y="5084640"/>
                <a:ext cx="5941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t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,d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t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,d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3 documents example contd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780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og frequency weigh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8600" y="2438280"/>
          <a:ext cx="4191120" cy="1857600"/>
        </p:xfrm>
        <a:graphic>
          <a:graphicData uri="http://schemas.openxmlformats.org/drawingml/2006/table">
            <a:tbl>
              <a:tblPr/>
              <a:tblGrid>
                <a:gridCol w="1185840"/>
                <a:gridCol w="909720"/>
                <a:gridCol w="1047600"/>
                <a:gridCol w="1047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f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jeal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oss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uth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4720" y="1699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After length normaliz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45080" y="2438280"/>
          <a:ext cx="4268880" cy="1857600"/>
        </p:xfrm>
        <a:graphic>
          <a:graphicData uri="http://schemas.openxmlformats.org/drawingml/2006/table">
            <a:tbl>
              <a:tblPr/>
              <a:tblGrid>
                <a:gridCol w="1236600"/>
                <a:gridCol w="1011240"/>
                <a:gridCol w="1009800"/>
                <a:gridCol w="1011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l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ss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th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95" name="TextBox 14"/>
          <p:cNvSpPr/>
          <p:nvPr/>
        </p:nvSpPr>
        <p:spPr>
          <a:xfrm>
            <a:off x="76320" y="4626000"/>
            <a:ext cx="9248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cos(SaS,PaP)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≈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0.789 × 0.832 + 0.515 × 0.555 + 0.335 × 0.0 + 0.0 × 0.0 ≈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0.9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cos(SaS,WH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≈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0.7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cos(PaP,WH)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≈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0.6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2997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term, we store the IDF in memory, in terms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hich is actually the length of its posting list (so anyway needed)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docI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the posting list of term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e store its frequenc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,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ich is tipically small and thus stored with unary/gamma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3"/>
              <p:cNvSpPr txBox="1"/>
              <p:nvPr/>
            </p:nvSpPr>
            <p:spPr>
              <a:xfrm>
                <a:off x="2141640" y="1890720"/>
                <a:ext cx="4230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ector spaces and other opera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ector space OK for bag-of-words que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ean metaphor for similar-document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t a good combination with operators: Boolean, wild-card, positional, proxim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684360" y="4716720"/>
            <a:ext cx="7920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Lucida Sans"/>
              </a:rPr>
              <a:t>First gener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Invented befor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spamming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web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Top-k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Rounded Rectangle 3"/>
          <p:cNvSpPr/>
          <p:nvPr/>
        </p:nvSpPr>
        <p:spPr>
          <a:xfrm>
            <a:off x="5651640" y="6308640"/>
            <a:ext cx="349236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eed-up top-k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Costl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the computation of the co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a se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ontender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 &lt; |A| &lt;&lt; 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es not necessarily contain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ut has many docs from among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urn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s in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ccording to the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ame approach is also used for other (non-cosine) scoring func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Will look at several schemes following this approa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select A’s do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docs containing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at least on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term. Hence this means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ake this furth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high-idf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ampion lists: top sc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ancy hits: for complex ranking function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uster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big fight: find the best </a:t>
            </a:r>
            <a:r>
              <a:rPr b="0" i="1" lang="it-IT" sz="3600" spc="-1" strike="noStrike">
                <a:solidFill>
                  <a:srgbClr val="000000"/>
                </a:solidFill>
                <a:latin typeface="Tahoma"/>
              </a:rPr>
              <a:t>ranking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Picture 3" descr="Picture2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3348000" y="2421000"/>
            <a:ext cx="2519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pproach #1: High-idf query terms onl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a query such a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atcher in the ry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Only accumulate scores from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catcher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Intui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n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tribute little to the scores and s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don</a:t>
            </a:r>
            <a:r>
              <a:rPr b="0" lang="ja-JP" sz="2600" spc="-1" strike="noStrike" u="sng">
                <a:solidFill>
                  <a:srgbClr val="000000"/>
                </a:solidFill>
                <a:uFillTx/>
                <a:latin typeface="Lucida Sans"/>
              </a:rPr>
              <a:t>’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t alter rank-ordering mu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Benefi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Postings of low-idf terms have many doc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these (many) docs get eliminated from set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A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of contend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2: Champion Lis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ssign to each term, its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st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Lucida Sans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f |Q| =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terms, merge their preferred lists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mq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swers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COS between Q and these docs, and choose the top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614600" y="5732640"/>
            <a:ext cx="618120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 to pic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&gt;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work well empirically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337400" y="6359400"/>
            <a:ext cx="706140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w SE use tf-idf  PLUS PageRank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(PLUS other weights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19" name="Object 6"/>
          <p:cNvGraphicFramePr/>
          <p:nvPr/>
        </p:nvGraphicFramePr>
        <p:xfrm>
          <a:off x="1547640" y="2421000"/>
          <a:ext cx="6624720" cy="21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62472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pproach #3: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multi-term queries, compute scores for docs containing several of the query te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y, at least 3 out of 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mposes a 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ft conjunction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n queries seen on web search engines (early Googl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Easy to implement in postings travers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3 of 4 query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507600" y="2733840"/>
            <a:ext cx="923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45400" y="3267000"/>
            <a:ext cx="956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08040" y="3800520"/>
            <a:ext cx="1294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Calpurn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2057400" y="2809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2057400" y="3343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9" name="Group 26"/>
          <p:cNvGrpSpPr/>
          <p:nvPr/>
        </p:nvGrpSpPr>
        <p:grpSpPr>
          <a:xfrm>
            <a:off x="3276720" y="3876840"/>
            <a:ext cx="4876560" cy="304560"/>
            <a:chOff x="3276720" y="3876840"/>
            <a:chExt cx="4876560" cy="304560"/>
          </a:xfrm>
        </p:grpSpPr>
        <p:sp>
          <p:nvSpPr>
            <p:cNvPr id="230" name="Rectangle 27"/>
            <p:cNvSpPr/>
            <p:nvPr/>
          </p:nvSpPr>
          <p:spPr>
            <a:xfrm>
              <a:off x="3276720" y="387684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3886200" y="387684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4495680" y="387684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3" name="Rectangle 30"/>
            <p:cNvSpPr/>
            <p:nvPr/>
          </p:nvSpPr>
          <p:spPr>
            <a:xfrm>
              <a:off x="5105520" y="387684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4" name="Line 31"/>
            <p:cNvSpPr/>
            <p:nvPr/>
          </p:nvSpPr>
          <p:spPr>
            <a:xfrm>
              <a:off x="5715000" y="3876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5" name="Group 51"/>
          <p:cNvGrpSpPr/>
          <p:nvPr/>
        </p:nvGrpSpPr>
        <p:grpSpPr>
          <a:xfrm>
            <a:off x="3276720" y="3267000"/>
            <a:ext cx="4917960" cy="398880"/>
            <a:chOff x="3276720" y="3267000"/>
            <a:chExt cx="4917960" cy="398880"/>
          </a:xfrm>
        </p:grpSpPr>
        <p:grpSp>
          <p:nvGrpSpPr>
            <p:cNvPr id="236" name="Group 20"/>
            <p:cNvGrpSpPr/>
            <p:nvPr/>
          </p:nvGrpSpPr>
          <p:grpSpPr>
            <a:xfrm>
              <a:off x="3276720" y="3343320"/>
              <a:ext cx="4876560" cy="304920"/>
              <a:chOff x="3276720" y="3343320"/>
              <a:chExt cx="4876560" cy="304920"/>
            </a:xfrm>
          </p:grpSpPr>
          <p:sp>
            <p:nvSpPr>
              <p:cNvPr id="237" name="Rectangle 21"/>
              <p:cNvSpPr/>
              <p:nvPr/>
            </p:nvSpPr>
            <p:spPr>
              <a:xfrm>
                <a:off x="3276720" y="334332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Rectangle 22"/>
              <p:cNvSpPr/>
              <p:nvPr/>
            </p:nvSpPr>
            <p:spPr>
              <a:xfrm>
                <a:off x="3886200" y="334332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9" name="Rectangle 23"/>
              <p:cNvSpPr/>
              <p:nvPr/>
            </p:nvSpPr>
            <p:spPr>
              <a:xfrm>
                <a:off x="4495680" y="334332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0" name="Rectangle 24"/>
              <p:cNvSpPr/>
              <p:nvPr/>
            </p:nvSpPr>
            <p:spPr>
              <a:xfrm>
                <a:off x="5105520" y="334332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1" name="Line 25"/>
              <p:cNvSpPr/>
              <p:nvPr/>
            </p:nvSpPr>
            <p:spPr>
              <a:xfrm>
                <a:off x="5715000" y="3343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42" name="Text Box 32"/>
            <p:cNvSpPr/>
            <p:nvPr/>
          </p:nvSpPr>
          <p:spPr>
            <a:xfrm>
              <a:off x="342648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Text Box 33"/>
            <p:cNvSpPr/>
            <p:nvPr/>
          </p:nvSpPr>
          <p:spPr>
            <a:xfrm>
              <a:off x="411228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468864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27112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Text Box 36"/>
            <p:cNvSpPr/>
            <p:nvPr/>
          </p:nvSpPr>
          <p:spPr>
            <a:xfrm>
              <a:off x="583164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Text Box 37"/>
            <p:cNvSpPr/>
            <p:nvPr/>
          </p:nvSpPr>
          <p:spPr>
            <a:xfrm>
              <a:off x="6453000" y="32670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8" name="Text Box 38"/>
            <p:cNvSpPr/>
            <p:nvPr/>
          </p:nvSpPr>
          <p:spPr>
            <a:xfrm>
              <a:off x="7111800" y="32670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Text Box 39"/>
            <p:cNvSpPr/>
            <p:nvPr/>
          </p:nvSpPr>
          <p:spPr>
            <a:xfrm>
              <a:off x="7721280" y="32670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50" name="Group 52"/>
          <p:cNvGrpSpPr/>
          <p:nvPr/>
        </p:nvGrpSpPr>
        <p:grpSpPr>
          <a:xfrm>
            <a:off x="3276720" y="2733840"/>
            <a:ext cx="4876560" cy="457200"/>
            <a:chOff x="3276720" y="2733840"/>
            <a:chExt cx="4876560" cy="457200"/>
          </a:xfrm>
        </p:grpSpPr>
        <p:grpSp>
          <p:nvGrpSpPr>
            <p:cNvPr id="251" name="Group 19"/>
            <p:cNvGrpSpPr/>
            <p:nvPr/>
          </p:nvGrpSpPr>
          <p:grpSpPr>
            <a:xfrm>
              <a:off x="3276720" y="2810160"/>
              <a:ext cx="4876560" cy="304920"/>
              <a:chOff x="3276720" y="2810160"/>
              <a:chExt cx="4876560" cy="304920"/>
            </a:xfrm>
          </p:grpSpPr>
          <p:sp>
            <p:nvSpPr>
              <p:cNvPr id="252" name="Rectangle 11"/>
              <p:cNvSpPr/>
              <p:nvPr/>
            </p:nvSpPr>
            <p:spPr>
              <a:xfrm>
                <a:off x="3276720" y="281016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3" name="Rectangle 13"/>
              <p:cNvSpPr/>
              <p:nvPr/>
            </p:nvSpPr>
            <p:spPr>
              <a:xfrm>
                <a:off x="3886200" y="2810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4" name="Rectangle 15"/>
              <p:cNvSpPr/>
              <p:nvPr/>
            </p:nvSpPr>
            <p:spPr>
              <a:xfrm>
                <a:off x="4495680" y="281016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5" name="Rectangle 16"/>
              <p:cNvSpPr/>
              <p:nvPr/>
            </p:nvSpPr>
            <p:spPr>
              <a:xfrm>
                <a:off x="5105520" y="281016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6" name="Line 18"/>
              <p:cNvSpPr/>
              <p:nvPr/>
            </p:nvSpPr>
            <p:spPr>
              <a:xfrm>
                <a:off x="5715000" y="2810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57" name="Text Box 40"/>
            <p:cNvSpPr/>
            <p:nvPr/>
          </p:nvSpPr>
          <p:spPr>
            <a:xfrm>
              <a:off x="3442320" y="2733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8" name="Text Box 41"/>
            <p:cNvSpPr/>
            <p:nvPr/>
          </p:nvSpPr>
          <p:spPr>
            <a:xfrm>
              <a:off x="4002840" y="2733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9" name="Text Box 42"/>
            <p:cNvSpPr/>
            <p:nvPr/>
          </p:nvSpPr>
          <p:spPr>
            <a:xfrm>
              <a:off x="4661640" y="2733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0" name="Text Box 43"/>
            <p:cNvSpPr/>
            <p:nvPr/>
          </p:nvSpPr>
          <p:spPr>
            <a:xfrm>
              <a:off x="5206680" y="2733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1" name="Text Box 44"/>
            <p:cNvSpPr/>
            <p:nvPr/>
          </p:nvSpPr>
          <p:spPr>
            <a:xfrm>
              <a:off x="5843520" y="2733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Text Box 45"/>
            <p:cNvSpPr/>
            <p:nvPr/>
          </p:nvSpPr>
          <p:spPr>
            <a:xfrm>
              <a:off x="6453000" y="2733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Text Box 46"/>
            <p:cNvSpPr/>
            <p:nvPr/>
          </p:nvSpPr>
          <p:spPr>
            <a:xfrm>
              <a:off x="6895080" y="27338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4" name="Text Box 47"/>
            <p:cNvSpPr/>
            <p:nvPr/>
          </p:nvSpPr>
          <p:spPr>
            <a:xfrm>
              <a:off x="7535880" y="273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5" name="Text Box 48"/>
          <p:cNvSpPr/>
          <p:nvPr/>
        </p:nvSpPr>
        <p:spPr>
          <a:xfrm>
            <a:off x="3301920" y="3800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AutoShape 49"/>
          <p:cNvSpPr/>
          <p:nvPr/>
        </p:nvSpPr>
        <p:spPr>
          <a:xfrm>
            <a:off x="2057400" y="3876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Text Box 50"/>
          <p:cNvSpPr/>
          <p:nvPr/>
        </p:nvSpPr>
        <p:spPr>
          <a:xfrm>
            <a:off x="3920760" y="3800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52960" y="2133720"/>
            <a:ext cx="965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nton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205740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70" name="Group 52"/>
          <p:cNvGrpSpPr/>
          <p:nvPr/>
        </p:nvGrpSpPr>
        <p:grpSpPr>
          <a:xfrm>
            <a:off x="3276720" y="2133720"/>
            <a:ext cx="4876560" cy="456840"/>
            <a:chOff x="3276720" y="2133720"/>
            <a:chExt cx="4876560" cy="456840"/>
          </a:xfrm>
        </p:grpSpPr>
        <p:grpSp>
          <p:nvGrpSpPr>
            <p:cNvPr id="271" name="Group 19"/>
            <p:cNvGrpSpPr/>
            <p:nvPr/>
          </p:nvGrpSpPr>
          <p:grpSpPr>
            <a:xfrm>
              <a:off x="3276720" y="2209680"/>
              <a:ext cx="4876560" cy="304560"/>
              <a:chOff x="3276720" y="2209680"/>
              <a:chExt cx="4876560" cy="304560"/>
            </a:xfrm>
          </p:grpSpPr>
          <p:sp>
            <p:nvSpPr>
              <p:cNvPr id="272" name="Rectangle 11"/>
              <p:cNvSpPr/>
              <p:nvPr/>
            </p:nvSpPr>
            <p:spPr>
              <a:xfrm>
                <a:off x="3276720" y="2209680"/>
                <a:ext cx="4876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3" name="Rectangle 13"/>
              <p:cNvSpPr/>
              <p:nvPr/>
            </p:nvSpPr>
            <p:spPr>
              <a:xfrm>
                <a:off x="3886200" y="220968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4" name="Rectangle 15"/>
              <p:cNvSpPr/>
              <p:nvPr/>
            </p:nvSpPr>
            <p:spPr>
              <a:xfrm>
                <a:off x="4495680" y="2209680"/>
                <a:ext cx="243864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5" name="Rectangle 16"/>
              <p:cNvSpPr/>
              <p:nvPr/>
            </p:nvSpPr>
            <p:spPr>
              <a:xfrm>
                <a:off x="5105520" y="2209680"/>
                <a:ext cx="12189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6" name="Line 18"/>
              <p:cNvSpPr/>
              <p:nvPr/>
            </p:nvSpPr>
            <p:spPr>
              <a:xfrm>
                <a:off x="5715000" y="2209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77" name="Text Box 40"/>
            <p:cNvSpPr/>
            <p:nvPr/>
          </p:nvSpPr>
          <p:spPr>
            <a:xfrm>
              <a:off x="345528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8" name="Text Box 41"/>
            <p:cNvSpPr/>
            <p:nvPr/>
          </p:nvSpPr>
          <p:spPr>
            <a:xfrm>
              <a:off x="400284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Text Box 42"/>
            <p:cNvSpPr/>
            <p:nvPr/>
          </p:nvSpPr>
          <p:spPr>
            <a:xfrm>
              <a:off x="466164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520668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Text Box 44"/>
            <p:cNvSpPr/>
            <p:nvPr/>
          </p:nvSpPr>
          <p:spPr>
            <a:xfrm>
              <a:off x="584352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Text Box 45"/>
            <p:cNvSpPr/>
            <p:nvPr/>
          </p:nvSpPr>
          <p:spPr>
            <a:xfrm>
              <a:off x="645300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Text Box 46"/>
            <p:cNvSpPr/>
            <p:nvPr/>
          </p:nvSpPr>
          <p:spPr>
            <a:xfrm>
              <a:off x="6895080" y="21337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Text Box 47"/>
            <p:cNvSpPr/>
            <p:nvPr/>
          </p:nvSpPr>
          <p:spPr>
            <a:xfrm>
              <a:off x="7535880" y="2133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5" name="Text Box 50"/>
          <p:cNvSpPr/>
          <p:nvPr/>
        </p:nvSpPr>
        <p:spPr>
          <a:xfrm>
            <a:off x="4582080" y="38098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6" name="Group 85"/>
          <p:cNvGrpSpPr/>
          <p:nvPr/>
        </p:nvGrpSpPr>
        <p:grpSpPr>
          <a:xfrm>
            <a:off x="4495680" y="2209680"/>
            <a:ext cx="1828800" cy="1447920"/>
            <a:chOff x="4495680" y="2209680"/>
            <a:chExt cx="1828800" cy="1447920"/>
          </a:xfrm>
        </p:grpSpPr>
        <p:sp>
          <p:nvSpPr>
            <p:cNvPr id="287" name="Rectangle 82"/>
            <p:cNvSpPr/>
            <p:nvPr/>
          </p:nvSpPr>
          <p:spPr>
            <a:xfrm>
              <a:off x="4495680" y="220968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Rectangle 83"/>
            <p:cNvSpPr/>
            <p:nvPr/>
          </p:nvSpPr>
          <p:spPr>
            <a:xfrm>
              <a:off x="4495680" y="281916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Rectangle 84"/>
            <p:cNvSpPr/>
            <p:nvPr/>
          </p:nvSpPr>
          <p:spPr>
            <a:xfrm>
              <a:off x="5715000" y="335304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290" name="Group 90" descr=""/>
          <p:cNvPicPr/>
          <p:nvPr/>
        </p:nvPicPr>
        <p:blipFill>
          <a:blip r:embed="rId1"/>
          <a:stretch/>
        </p:blipFill>
        <p:spPr>
          <a:xfrm>
            <a:off x="3876840" y="2200320"/>
            <a:ext cx="1854000" cy="2006640"/>
          </a:xfrm>
          <a:prstGeom prst="rect">
            <a:avLst/>
          </a:prstGeom>
          <a:ln w="0">
            <a:noFill/>
          </a:ln>
        </p:spPr>
      </p:pic>
      <p:pic>
        <p:nvPicPr>
          <p:cNvPr id="291" name="Group 91" descr=""/>
          <p:cNvPicPr/>
          <p:nvPr/>
        </p:nvPicPr>
        <p:blipFill>
          <a:blip r:embed="rId2"/>
          <a:stretch/>
        </p:blipFill>
        <p:spPr>
          <a:xfrm>
            <a:off x="4486320" y="2200320"/>
            <a:ext cx="1854000" cy="20066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95"/>
          <p:cNvSpPr/>
          <p:nvPr/>
        </p:nvSpPr>
        <p:spPr>
          <a:xfrm>
            <a:off x="1018440" y="5105520"/>
            <a:ext cx="75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Scores only computed for docs 8, 16 and 32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plex sco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a simple total score combining cosine relevance and authorit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net-score(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q,d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) =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PR(d) +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cosine(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q,d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use some other linear combination than an equal weigh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Now we seek the top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 docs by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Lucida Sans"/>
              </a:rPr>
              <a:t>net sco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4: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Fancy-hits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heuristic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23640" y="1626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Assign docID by decreasing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 weight,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by docID = decr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FH(t)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docs for t with highes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f-idf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IL(t) = the re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000"/>
                </a:solidFill>
                <a:uFillTx/>
                <a:latin typeface="Comic Sans MS"/>
              </a:rPr>
              <a:t>Idea</a:t>
            </a:r>
            <a:r>
              <a:rPr b="0" lang="en-US" sz="1800" spc="-1" strike="noStrike">
                <a:solidFill>
                  <a:srgbClr val="00a000"/>
                </a:solidFill>
                <a:latin typeface="Comic Sans MS"/>
              </a:rPr>
              <a:t>: a document that scores high should be in FH or in the front of I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Search for a t-term quer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First F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Take th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docs of their F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of these docs and keep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Then 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scan ILs and check the common doc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and possibly insert them into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top when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 have been checked or the PR score becomes smaller than some threshold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Approach #5: Clust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Oval 15"/>
          <p:cNvSpPr/>
          <p:nvPr/>
        </p:nvSpPr>
        <p:spPr>
          <a:xfrm>
            <a:off x="2011320" y="317340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Oval 16"/>
          <p:cNvSpPr/>
          <p:nvPr/>
        </p:nvSpPr>
        <p:spPr>
          <a:xfrm>
            <a:off x="1806480" y="26845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Oval 17"/>
          <p:cNvSpPr/>
          <p:nvPr/>
        </p:nvSpPr>
        <p:spPr>
          <a:xfrm>
            <a:off x="2422440" y="300996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Oval 18"/>
          <p:cNvSpPr/>
          <p:nvPr/>
        </p:nvSpPr>
        <p:spPr>
          <a:xfrm>
            <a:off x="2422440" y="34164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Oval 19"/>
          <p:cNvSpPr/>
          <p:nvPr/>
        </p:nvSpPr>
        <p:spPr>
          <a:xfrm>
            <a:off x="1806480" y="38228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Oval 20"/>
          <p:cNvSpPr/>
          <p:nvPr/>
        </p:nvSpPr>
        <p:spPr>
          <a:xfrm>
            <a:off x="6743880" y="5367240"/>
            <a:ext cx="21240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Oval 21"/>
          <p:cNvSpPr/>
          <p:nvPr/>
        </p:nvSpPr>
        <p:spPr>
          <a:xfrm>
            <a:off x="5715000" y="195408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Oval 22"/>
          <p:cNvSpPr/>
          <p:nvPr/>
        </p:nvSpPr>
        <p:spPr>
          <a:xfrm>
            <a:off x="5867280" y="2262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Oval 24"/>
          <p:cNvSpPr/>
          <p:nvPr/>
        </p:nvSpPr>
        <p:spPr>
          <a:xfrm>
            <a:off x="695016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Oval 25"/>
          <p:cNvSpPr/>
          <p:nvPr/>
        </p:nvSpPr>
        <p:spPr>
          <a:xfrm>
            <a:off x="6743880" y="58546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Oval 26"/>
          <p:cNvSpPr/>
          <p:nvPr/>
        </p:nvSpPr>
        <p:spPr>
          <a:xfrm>
            <a:off x="7155000" y="5529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Oval 27"/>
          <p:cNvSpPr/>
          <p:nvPr/>
        </p:nvSpPr>
        <p:spPr>
          <a:xfrm>
            <a:off x="7155000" y="58546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Oval 28"/>
          <p:cNvSpPr/>
          <p:nvPr/>
        </p:nvSpPr>
        <p:spPr>
          <a:xfrm>
            <a:off x="6469200" y="236052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Oval 29"/>
          <p:cNvSpPr/>
          <p:nvPr/>
        </p:nvSpPr>
        <p:spPr>
          <a:xfrm>
            <a:off x="6743880" y="21970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Oval 30"/>
          <p:cNvSpPr/>
          <p:nvPr/>
        </p:nvSpPr>
        <p:spPr>
          <a:xfrm>
            <a:off x="2217600" y="4879800"/>
            <a:ext cx="212760" cy="25272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Oval 31"/>
          <p:cNvSpPr/>
          <p:nvPr/>
        </p:nvSpPr>
        <p:spPr>
          <a:xfrm>
            <a:off x="4275000" y="4392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Oval 32"/>
          <p:cNvSpPr/>
          <p:nvPr/>
        </p:nvSpPr>
        <p:spPr>
          <a:xfrm>
            <a:off x="2629080" y="512280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Oval 33"/>
          <p:cNvSpPr/>
          <p:nvPr/>
        </p:nvSpPr>
        <p:spPr>
          <a:xfrm>
            <a:off x="2629080" y="487980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Oval 34"/>
          <p:cNvSpPr/>
          <p:nvPr/>
        </p:nvSpPr>
        <p:spPr>
          <a:xfrm>
            <a:off x="180648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Oval 35"/>
          <p:cNvSpPr/>
          <p:nvPr/>
        </p:nvSpPr>
        <p:spPr>
          <a:xfrm>
            <a:off x="2149560" y="5367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Oval 36"/>
          <p:cNvSpPr/>
          <p:nvPr/>
        </p:nvSpPr>
        <p:spPr>
          <a:xfrm>
            <a:off x="4479840" y="41482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Oval 37"/>
          <p:cNvSpPr/>
          <p:nvPr/>
        </p:nvSpPr>
        <p:spPr>
          <a:xfrm>
            <a:off x="4686480" y="455436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Oval 38"/>
          <p:cNvSpPr/>
          <p:nvPr/>
        </p:nvSpPr>
        <p:spPr>
          <a:xfrm>
            <a:off x="4479840" y="487980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Oval 39"/>
          <p:cNvSpPr/>
          <p:nvPr/>
        </p:nvSpPr>
        <p:spPr>
          <a:xfrm>
            <a:off x="4068720" y="463536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Rectangle 40"/>
          <p:cNvSpPr/>
          <p:nvPr/>
        </p:nvSpPr>
        <p:spPr>
          <a:xfrm>
            <a:off x="5921280" y="3173400"/>
            <a:ext cx="2127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Oval 41"/>
          <p:cNvSpPr/>
          <p:nvPr/>
        </p:nvSpPr>
        <p:spPr>
          <a:xfrm>
            <a:off x="5715000" y="3173400"/>
            <a:ext cx="212760" cy="250920"/>
          </a:xfrm>
          <a:prstGeom prst="ellipse">
            <a:avLst/>
          </a:prstGeom>
          <a:solidFill>
            <a:srgbClr val="3399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Oval 42"/>
          <p:cNvSpPr/>
          <p:nvPr/>
        </p:nvSpPr>
        <p:spPr>
          <a:xfrm>
            <a:off x="1600200" y="634212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Oval 43"/>
          <p:cNvSpPr/>
          <p:nvPr/>
        </p:nvSpPr>
        <p:spPr>
          <a:xfrm>
            <a:off x="4892760" y="63421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30640" y="32004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29" name="AutoShape 5"/>
          <p:cNvCxnSpPr>
            <a:stCxn id="328" idx="1"/>
            <a:endCxn id="328" idx="1"/>
          </p:cNvCxnSpPr>
          <p:nvPr/>
        </p:nvCxnSpPr>
        <p:spPr>
          <a:xfrm>
            <a:off x="5866920" y="3428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0" name="Text Box 11"/>
          <p:cNvSpPr/>
          <p:nvPr/>
        </p:nvSpPr>
        <p:spPr>
          <a:xfrm>
            <a:off x="1823040" y="6248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5120640" y="62485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Follow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Oval 13"/>
          <p:cNvSpPr/>
          <p:nvPr/>
        </p:nvSpPr>
        <p:spPr>
          <a:xfrm>
            <a:off x="6248520" y="2286000"/>
            <a:ext cx="7596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3" name="AutoShape 45"/>
          <p:cNvCxnSpPr>
            <a:stCxn id="332" idx="5"/>
            <a:endCxn id="312" idx="1"/>
          </p:cNvCxnSpPr>
          <p:nvPr/>
        </p:nvCxnSpPr>
        <p:spPr>
          <a:xfrm>
            <a:off x="6312960" y="2350800"/>
            <a:ext cx="18828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AutoShape 46"/>
          <p:cNvCxnSpPr>
            <a:stCxn id="332" idx="6"/>
            <a:endCxn id="313" idx="2"/>
          </p:cNvCxnSpPr>
          <p:nvPr/>
        </p:nvCxnSpPr>
        <p:spPr>
          <a:xfrm>
            <a:off x="6324480" y="2323800"/>
            <a:ext cx="41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AutoShape 48"/>
          <p:cNvCxnSpPr>
            <a:stCxn id="332" idx="0"/>
          </p:cNvCxnSpPr>
          <p:nvPr/>
        </p:nvCxnSpPr>
        <p:spPr>
          <a:xfrm>
            <a:off x="6286680" y="22860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" name="AutoShape 50"/>
          <p:cNvCxnSpPr>
            <a:stCxn id="332" idx="7"/>
          </p:cNvCxnSpPr>
          <p:nvPr/>
        </p:nvCxnSpPr>
        <p:spPr>
          <a:xfrm flipH="1" flipV="1">
            <a:off x="6232320" y="2012760"/>
            <a:ext cx="813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AutoShape 51"/>
          <p:cNvCxnSpPr>
            <a:stCxn id="332" idx="1"/>
            <a:endCxn id="306" idx="6"/>
          </p:cNvCxnSpPr>
          <p:nvPr/>
        </p:nvCxnSpPr>
        <p:spPr>
          <a:xfrm flipH="1" flipV="1">
            <a:off x="5937120" y="2079360"/>
            <a:ext cx="3229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" name="AutoShape 52"/>
          <p:cNvCxnSpPr>
            <a:stCxn id="332" idx="1"/>
            <a:endCxn id="307" idx="6"/>
          </p:cNvCxnSpPr>
          <p:nvPr/>
        </p:nvCxnSpPr>
        <p:spPr>
          <a:xfrm flipH="1">
            <a:off x="6089400" y="2297160"/>
            <a:ext cx="17064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AutoShape 53"/>
          <p:cNvCxnSpPr>
            <a:stCxn id="325" idx="0"/>
            <a:endCxn id="332" idx="3"/>
          </p:cNvCxnSpPr>
          <p:nvPr/>
        </p:nvCxnSpPr>
        <p:spPr>
          <a:xfrm flipV="1">
            <a:off x="5821200" y="2350800"/>
            <a:ext cx="439200" cy="8136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340" name="Freeform 54"/>
          <p:cNvSpPr/>
          <p:nvPr/>
        </p:nvSpPr>
        <p:spPr>
          <a:xfrm>
            <a:off x="5062680" y="1582560"/>
            <a:ext cx="2787480" cy="1486080"/>
          </a:xfrm>
          <a:custGeom>
            <a:avLst/>
            <a:gdLst>
              <a:gd name="textAreaLeft" fmla="*/ 0 w 2787480"/>
              <a:gd name="textAreaRight" fmla="*/ 2787840 w 278748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1756" h="936">
                <a:moveTo>
                  <a:pt x="52" y="267"/>
                </a:moveTo>
                <a:cubicBezTo>
                  <a:pt x="131" y="371"/>
                  <a:pt x="0" y="200"/>
                  <a:pt x="129" y="361"/>
                </a:cubicBezTo>
                <a:cubicBezTo>
                  <a:pt x="185" y="430"/>
                  <a:pt x="219" y="505"/>
                  <a:pt x="293" y="559"/>
                </a:cubicBezTo>
                <a:cubicBezTo>
                  <a:pt x="341" y="594"/>
                  <a:pt x="412" y="601"/>
                  <a:pt x="465" y="628"/>
                </a:cubicBezTo>
                <a:cubicBezTo>
                  <a:pt x="502" y="647"/>
                  <a:pt x="538" y="671"/>
                  <a:pt x="576" y="688"/>
                </a:cubicBezTo>
                <a:cubicBezTo>
                  <a:pt x="629" y="712"/>
                  <a:pt x="687" y="731"/>
                  <a:pt x="740" y="757"/>
                </a:cubicBezTo>
                <a:cubicBezTo>
                  <a:pt x="853" y="814"/>
                  <a:pt x="965" y="884"/>
                  <a:pt x="1092" y="903"/>
                </a:cubicBezTo>
                <a:cubicBezTo>
                  <a:pt x="1188" y="936"/>
                  <a:pt x="1281" y="916"/>
                  <a:pt x="1385" y="912"/>
                </a:cubicBezTo>
                <a:cubicBezTo>
                  <a:pt x="1453" y="906"/>
                  <a:pt x="1508" y="896"/>
                  <a:pt x="1574" y="886"/>
                </a:cubicBezTo>
                <a:cubicBezTo>
                  <a:pt x="1616" y="862"/>
                  <a:pt x="1653" y="850"/>
                  <a:pt x="1686" y="817"/>
                </a:cubicBezTo>
                <a:cubicBezTo>
                  <a:pt x="1697" y="783"/>
                  <a:pt x="1737" y="722"/>
                  <a:pt x="1737" y="722"/>
                </a:cubicBezTo>
                <a:cubicBezTo>
                  <a:pt x="1742" y="702"/>
                  <a:pt x="1756" y="683"/>
                  <a:pt x="1754" y="662"/>
                </a:cubicBezTo>
                <a:cubicBezTo>
                  <a:pt x="1745" y="584"/>
                  <a:pt x="1701" y="519"/>
                  <a:pt x="1677" y="447"/>
                </a:cubicBezTo>
                <a:cubicBezTo>
                  <a:pt x="1654" y="377"/>
                  <a:pt x="1629" y="289"/>
                  <a:pt x="1582" y="232"/>
                </a:cubicBezTo>
                <a:cubicBezTo>
                  <a:pt x="1442" y="65"/>
                  <a:pt x="1160" y="16"/>
                  <a:pt x="955" y="0"/>
                </a:cubicBezTo>
                <a:cubicBezTo>
                  <a:pt x="845" y="5"/>
                  <a:pt x="759" y="14"/>
                  <a:pt x="654" y="26"/>
                </a:cubicBezTo>
                <a:cubicBezTo>
                  <a:pt x="598" y="40"/>
                  <a:pt x="539" y="51"/>
                  <a:pt x="482" y="60"/>
                </a:cubicBezTo>
                <a:cubicBezTo>
                  <a:pt x="409" y="91"/>
                  <a:pt x="328" y="111"/>
                  <a:pt x="250" y="129"/>
                </a:cubicBezTo>
                <a:cubicBezTo>
                  <a:pt x="202" y="152"/>
                  <a:pt x="153" y="180"/>
                  <a:pt x="104" y="198"/>
                </a:cubicBezTo>
                <a:cubicBezTo>
                  <a:pt x="98" y="204"/>
                  <a:pt x="90" y="208"/>
                  <a:pt x="86" y="215"/>
                </a:cubicBezTo>
                <a:cubicBezTo>
                  <a:pt x="72" y="239"/>
                  <a:pt x="86" y="267"/>
                  <a:pt x="52" y="267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Oval 56"/>
          <p:cNvSpPr/>
          <p:nvPr/>
        </p:nvSpPr>
        <p:spPr>
          <a:xfrm>
            <a:off x="6172200" y="2187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Oval 58"/>
          <p:cNvSpPr/>
          <p:nvPr/>
        </p:nvSpPr>
        <p:spPr>
          <a:xfrm>
            <a:off x="6095880" y="17524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pre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Pick </a:t>
            </a: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N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docs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 at random: call these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leaders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00000"/>
                </a:solidFill>
                <a:latin typeface="Lucida Sans"/>
                <a:ea typeface="SimSun"/>
              </a:rPr>
              <a:t>For every other doc, pre-compute nearest leader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Docs attached to a leader: its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followers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  <a:ea typeface="SimSun"/>
              </a:rPr>
              <a:t>Likel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: each leader has ~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query proces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  <a:ea typeface="SimSun"/>
              </a:rPr>
              <a:t>Process a query as follows: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Given query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, find its nearest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eader L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Seek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nearest docs from among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’s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Why use random sampl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Fa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eaders reflect data distribu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Tahoma"/>
              </a:rPr>
              <a:t>Ranking: Google </a:t>
            </a:r>
            <a:r>
              <a:rPr b="0" i="1" lang="it-IT" sz="4000" spc="-1" strike="noStrike">
                <a:solidFill>
                  <a:srgbClr val="000099"/>
                </a:solidFill>
                <a:latin typeface="Tahoma"/>
              </a:rPr>
              <a:t>vs</a:t>
            </a:r>
            <a:r>
              <a:rPr b="0" lang="it-IT" sz="4000" spc="-1" strike="noStrike">
                <a:solidFill>
                  <a:srgbClr val="000099"/>
                </a:solidFill>
                <a:latin typeface="Tahoma"/>
              </a:rPr>
              <a:t>  Google.c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6" name="Picture 3" descr="Picture3"/>
          <p:cNvPicPr/>
          <p:nvPr/>
        </p:nvPicPr>
        <p:blipFill>
          <a:blip r:embed="rId1"/>
          <a:stretch/>
        </p:blipFill>
        <p:spPr>
          <a:xfrm>
            <a:off x="0" y="1419120"/>
            <a:ext cx="90280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General varia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Have each follower attached t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  <a:ea typeface="SimSu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=3 (say) nearest lead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From query, fin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b</a:t>
            </a:r>
            <a:r>
              <a:rPr b="0" i="1" lang="en-US" sz="26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=4 (say) nearest leaders and their follow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Can recur on leader/follower construction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Rounded Rectangle 3"/>
          <p:cNvSpPr/>
          <p:nvPr/>
        </p:nvSpPr>
        <p:spPr>
          <a:xfrm>
            <a:off x="6516720" y="6308640"/>
            <a:ext cx="262728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user feedback on relevance of docs in initial set of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8c1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issues a (short, simple)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marks some results as relevant or non-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computes a better representation of the information need based on feedba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 can go through one or mor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iteration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Rocchio (SMART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d in practi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r  </a:t>
            </a: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=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nr</a:t>
            </a:r>
            <a:r>
              <a:rPr b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ir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m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modified query vector;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0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0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 original query vector; 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  <a:ea typeface="Arial"/>
              </a:rPr>
              <a:t>α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Arial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  <a:ea typeface="Arial"/>
              </a:rPr>
              <a:t>β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γ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: weights (hand-chosen or set empiricall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New query moves toward relevant documents and away from irrelevant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7"/>
              <p:cNvSpPr txBox="1"/>
              <p:nvPr/>
            </p:nvSpPr>
            <p:spPr>
              <a:xfrm>
                <a:off x="1069920" y="2158920"/>
                <a:ext cx="71056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γ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5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Proble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rs are often reluctant to provide explicit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t’s often harder to understand why a particular document was retrieved after applying 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re is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no clear evidenc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at relevance feedback i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est us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the user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tim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seudo 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seudo-relevance feedback automate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nua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art of true relevance feedback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Retrieve a list of hits for the user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s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Assume that the top k are 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Do relevance feedback (e.g., Rocchio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rks very well on aver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can go horribly wrong for some queri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iterations can cause query drif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Query Expan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relevant/non-relevant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document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which is used to reweight terms in the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query expan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good/bad search term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words or phra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How augment the user query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Manual thesauru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SimSun"/>
              </a:rPr>
              <a:t>(costly to generat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E.g. MedLine: physician, syn: doc, doctor, M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Global Analysis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Lucida Sans"/>
                <a:ea typeface="SimSun"/>
              </a:rPr>
              <a:t>(static; all docs in collec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Automatically derived thesaur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(co-occurrence statistic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Refinements based on query-log min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Common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ocal Analysi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 (dynamic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Analysis of documents in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result se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assis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8" name="Content Placeholder 3" descr="queryexp.gif"/>
          <p:cNvPicPr/>
          <p:nvPr/>
        </p:nvPicPr>
        <p:blipFill>
          <a:blip r:embed="rId1"/>
          <a:stretch/>
        </p:blipFill>
        <p:spPr>
          <a:xfrm>
            <a:off x="125280" y="1600200"/>
            <a:ext cx="8866440" cy="2514600"/>
          </a:xfrm>
          <a:prstGeom prst="rect">
            <a:avLst/>
          </a:prstGeom>
          <a:ln w="0">
            <a:noFill/>
          </a:ln>
        </p:spPr>
      </p:pic>
      <p:sp>
        <p:nvSpPr>
          <p:cNvPr id="379" name="Up Arrow Callout 4"/>
          <p:cNvSpPr/>
          <p:nvPr/>
        </p:nvSpPr>
        <p:spPr>
          <a:xfrm>
            <a:off x="1126080" y="4362120"/>
            <a:ext cx="6672960" cy="1082880"/>
          </a:xfrm>
          <a:prstGeom prst="upArrowCallout">
            <a:avLst>
              <a:gd name="adj1" fmla="val 23567"/>
              <a:gd name="adj2" fmla="val 23593"/>
              <a:gd name="adj3" fmla="val 25000"/>
              <a:gd name="adj4" fmla="val 7004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ould you expect such a feature to increase the 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olume at a search engin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Text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1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Rounded Rectangle 3"/>
          <p:cNvSpPr/>
          <p:nvPr/>
        </p:nvSpPr>
        <p:spPr>
          <a:xfrm>
            <a:off x="5651640" y="6308640"/>
            <a:ext cx="349236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6.2 and 6.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imilarity between binary vec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ocument is binary vector X,Y in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core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overlap meas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682560" y="4527720"/>
          <a:ext cx="7677360" cy="233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527720"/>
                    <a:ext cx="767736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3419640" y="3357720"/>
                <a:ext cx="1447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∩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AutoShape 6"/>
          <p:cNvSpPr/>
          <p:nvPr/>
        </p:nvSpPr>
        <p:spPr>
          <a:xfrm>
            <a:off x="6302880" y="3567960"/>
            <a:ext cx="2030760" cy="441360"/>
          </a:xfrm>
          <a:prstGeom prst="roundRect">
            <a:avLst>
              <a:gd name="adj" fmla="val 16667"/>
            </a:avLst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at’s wrong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3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ce coefficient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(wrt avg #terms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Jaccard coefficient </a:t>
            </a:r>
            <a:r>
              <a:rPr b="0" lang="en-US" sz="1900" spc="-1" strike="noStrike">
                <a:solidFill>
                  <a:srgbClr val="00a000"/>
                </a:solidFill>
                <a:latin typeface="Lucida Sans"/>
              </a:rPr>
              <a:t>(wrt possible terms)</a:t>
            </a: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"/>
              <p:cNvSpPr txBox="1"/>
              <p:nvPr/>
            </p:nvSpPr>
            <p:spPr>
              <a:xfrm>
                <a:off x="3071880" y="4505400"/>
                <a:ext cx="2735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∪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2916360" y="2276640"/>
                <a:ext cx="3960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AutoShape 8"/>
          <p:cNvSpPr/>
          <p:nvPr/>
        </p:nvSpPr>
        <p:spPr>
          <a:xfrm>
            <a:off x="6974280" y="4307760"/>
            <a:ext cx="173052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K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6886800" y="2204280"/>
            <a:ext cx="176256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NO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wrong in doc-similarity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Overlap matching doesn</a:t>
            </a:r>
            <a:r>
              <a:rPr b="0" lang="ja-JP" sz="3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 consider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frequency in a document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alks more of t ? Then t should be weighted more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scarcity in collection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commoner than </a:t>
            </a: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baby b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ngth of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should be normaliz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famous 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: tf-idf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1908000" y="1617840"/>
                <a:ext cx="4230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4"/>
          <p:cNvSpPr/>
          <p:nvPr/>
        </p:nvSpPr>
        <p:spPr>
          <a:xfrm>
            <a:off x="1073160" y="4497480"/>
            <a:ext cx="854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20040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67652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531800" y="2625840"/>
            <a:ext cx="538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Number of occurrences of term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doc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2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6800" y="2625840"/>
            <a:ext cx="349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700" spc="-1" strike="noStrike">
                <a:solidFill>
                  <a:srgbClr val="000000"/>
                </a:solidFill>
                <a:latin typeface="Times New Roman"/>
              </a:rPr>
              <a:t>tf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74880" y="2841480"/>
            <a:ext cx="20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t,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622440" y="3284640"/>
            <a:ext cx="8126280" cy="900000"/>
            <a:chOff x="622440" y="3284640"/>
            <a:chExt cx="8126280" cy="900000"/>
          </a:xfrm>
        </p:grpSpPr>
        <p:sp>
          <p:nvSpPr>
            <p:cNvPr id="123" name="Line 11"/>
            <p:cNvSpPr/>
            <p:nvPr/>
          </p:nvSpPr>
          <p:spPr>
            <a:xfrm>
              <a:off x="2054160" y="3672000"/>
              <a:ext cx="25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12"/>
            <p:cNvSpPr/>
            <p:nvPr/>
          </p:nvSpPr>
          <p:spPr>
            <a:xfrm>
              <a:off x="775656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379080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>
              <a:off x="2987640" y="3355920"/>
              <a:ext cx="5761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where 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= #docs containing term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n = #docs in the indexed 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1433520" y="3451320"/>
              <a:ext cx="441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109044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2077560" y="367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18"/>
            <p:cNvSpPr/>
            <p:nvPr/>
          </p:nvSpPr>
          <p:spPr>
            <a:xfrm>
              <a:off x="2098080" y="331632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19"/>
            <p:cNvSpPr/>
            <p:nvPr/>
          </p:nvSpPr>
          <p:spPr>
            <a:xfrm>
              <a:off x="622440" y="3451320"/>
              <a:ext cx="365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idf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20"/>
            <p:cNvSpPr/>
            <p:nvPr/>
          </p:nvSpPr>
          <p:spPr>
            <a:xfrm>
              <a:off x="2215440" y="39560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Rectangle 21"/>
            <p:cNvSpPr/>
            <p:nvPr/>
          </p:nvSpPr>
          <p:spPr>
            <a:xfrm>
              <a:off x="1004760" y="36655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>
              <a:off x="2347920" y="343836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ctangle 23"/>
            <p:cNvSpPr/>
            <p:nvPr/>
          </p:nvSpPr>
          <p:spPr>
            <a:xfrm>
              <a:off x="23554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Rectangle 24"/>
            <p:cNvSpPr/>
            <p:nvPr/>
          </p:nvSpPr>
          <p:spPr>
            <a:xfrm>
              <a:off x="23554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Rectangle 25"/>
            <p:cNvSpPr/>
            <p:nvPr/>
          </p:nvSpPr>
          <p:spPr>
            <a:xfrm>
              <a:off x="1883880" y="3438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Rectangle 26"/>
            <p:cNvSpPr/>
            <p:nvPr/>
          </p:nvSpPr>
          <p:spPr>
            <a:xfrm>
              <a:off x="18838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Rectangle 27"/>
            <p:cNvSpPr/>
            <p:nvPr/>
          </p:nvSpPr>
          <p:spPr>
            <a:xfrm>
              <a:off x="18838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Rectangle 28"/>
            <p:cNvSpPr/>
            <p:nvPr/>
          </p:nvSpPr>
          <p:spPr>
            <a:xfrm>
              <a:off x="1127880" y="341316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1" name="Rectangle 29"/>
          <p:cNvSpPr/>
          <p:nvPr/>
        </p:nvSpPr>
        <p:spPr>
          <a:xfrm>
            <a:off x="1170720" y="258768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42" name="Object 30"/>
          <p:cNvGraphicFramePr/>
          <p:nvPr/>
        </p:nvGraphicFramePr>
        <p:xfrm>
          <a:off x="1125360" y="4581360"/>
          <a:ext cx="710892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4581360"/>
                    <a:ext cx="710892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31"/>
          <p:cNvSpPr/>
          <p:nvPr/>
        </p:nvSpPr>
        <p:spPr>
          <a:xfrm>
            <a:off x="755640" y="4869000"/>
            <a:ext cx="806436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32"/>
          <p:cNvSpPr/>
          <p:nvPr/>
        </p:nvSpPr>
        <p:spPr>
          <a:xfrm>
            <a:off x="2050920" y="4510080"/>
            <a:ext cx="1657440" cy="23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AutoShape 33"/>
          <p:cNvSpPr/>
          <p:nvPr/>
        </p:nvSpPr>
        <p:spPr>
          <a:xfrm>
            <a:off x="4716360" y="5516640"/>
            <a:ext cx="3672000" cy="115236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Vector Space mod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y distance is a bad ide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8" name="Content Placeholder 3" descr="vs1.gif"/>
          <p:cNvPicPr/>
          <p:nvPr/>
        </p:nvPicPr>
        <p:blipFill>
          <a:blip r:embed="rId1"/>
          <a:stretch/>
        </p:blipFill>
        <p:spPr>
          <a:xfrm>
            <a:off x="1403280" y="1628640"/>
            <a:ext cx="6408720" cy="50151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8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3-10-22T14:23:53Z</dcterms:modified>
  <cp:revision>1168</cp:revision>
  <dc:subject/>
  <dc:title>Web Algorithmics</dc:title>
</cp:coreProperties>
</file>